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03B-A816-4BDD-AF34-43260DBD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83B2-36EF-422F-8845-E82E7308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6FF1A-AE4A-4C35-A85D-6F30C2F6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B1E92-849B-42F0-905E-473E238D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DD393-9B5B-4B7E-9C50-68BC4F7D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33450-138B-42D3-B992-2527EF07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684E8-FED7-4727-88DE-30D6CE88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CE07B-7723-44C0-8E6F-4F6EB3EA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705F5-185E-4107-BA9B-F8CFC1DC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862D4-AF7B-4278-95A8-61F98373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568DB-853D-4E33-95E3-CC582E90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89568-0A2C-4179-8CF9-8DA634D9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532-64B4-4E08-A0E0-13AECC6A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3192B-9F57-4B5C-80F3-74EA272C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7D02E-CF8D-4653-ACBF-6DA3633F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8137F-7919-41FE-9639-0E8DA01E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5E895-C8BF-4777-8F57-A74C6C8B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EC3DB-9EF7-49BF-898C-6FEFA1EF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229D1-A420-4FFC-83C7-34F88340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3C362-717D-4A7E-8387-4FEC639B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54C54-BA92-41E5-B0E3-35D15CD3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34B8D-251D-4586-B68B-39B25FB4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4F28C-6818-4486-83F3-84192E4C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9AC-0BB1-4F95-B841-AE3D8B7F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8C3BF-4F30-4EB8-95B8-1012D441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E9EC9-C65C-4903-A074-81720445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3F540-639D-40D4-A9AC-30A7EE7B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68222-7791-4F07-AE1B-2FFB2A93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0FD44-F08C-4CDE-841D-0C66AD69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A1901-E97E-4F6D-AFD1-2444D867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D1F88-7E0C-4518-B406-FC85BDE9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0CFD3-EF19-4CE8-8AF1-61D73E2B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C95B2-7715-4BAB-800B-0F02DE1C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BBB41-F8D9-4DDC-946C-F0743345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E67B-D489-4B26-A0F6-D962D170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D21E4-BACE-4FAA-9E22-A2EA0C49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10CBB-FB07-4C19-893E-D123612E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F40E0-2E3C-4C19-B21C-E4646A56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25D05-106C-49D6-A8A7-DB892A9D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B6BA9-7841-485B-AEC8-77701125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E655F-5226-4A2F-940F-2B1E190B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029C8-7F7C-455E-A355-34CD2B0C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934FD-2DF9-4C56-A1DC-6D0265F3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42BEC-AF4B-4526-A085-FDE1181B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35B20-E9E6-42E0-9511-7475C615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5FE4-3B41-4DE7-8E8B-4C4D4F94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DEB86-7BEF-4E68-965A-0ABD4169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261AD-52A3-46F9-9172-E272F661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56066-EBF4-4A69-9EB8-7956DB49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A51E5-17AB-41BC-BFBD-FFDB1005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73F0F-70B5-4705-9646-2DAD1521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8961D7-3078-4E75-B46F-B5B305C6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229901-F34A-4F79-9B0C-091CEC27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552CBA-DD60-4C0F-87C3-A536D366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744EA9-AA0B-4D28-9EAD-706ED92F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164D59-284E-42CD-8758-AC635EA8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961E-EFBB-4E7C-BCB9-7E2CECB9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26E228-9A76-4557-9C1D-0C88AADB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89B5A3-4575-4BAC-9E29-5A36C0B2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1F358E-9715-4E1B-90C9-E6B8FDE3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7CECA7-1E5B-4D94-A5EB-DB6F2F57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A58589-6BBE-4C1E-A8F6-14497582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B8EF96-D254-4B48-B645-110A4F64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8F6A9C-5CB0-4D43-ACEA-44A53F22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A71921-AEB5-41D6-9879-483BA17D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90D19B-A419-40A4-BFB6-3F041726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3EE794-3310-4C82-AD7C-BA1ADC35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A9B9-592E-4F0C-8B47-06F67E3C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95C540-EDD1-4BF6-B11A-CE707FC4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833439-C942-48A2-A7CF-173E5D3E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694ABC-07D5-4286-A005-2FCE8764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1D078B-7CFF-4A7B-A125-D6A22C0F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1E454D-D1D5-4130-A781-D4D8C5A7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547B38-A93F-41B8-B868-F52DAC45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E0AFB0-B712-43C3-A2F1-72D33491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335614-50AE-4354-92B6-2129C821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5BAB93-FC37-4824-B8C4-387258CE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8641A6-908C-4E08-A1EA-45E0D754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06A4-7E0A-415F-970A-EC702A9A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534B47-DE63-4370-A6BD-D3FFDA61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B1FB14-3134-4714-9133-8FDCE186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3EF51C-E625-4E06-966F-462EAFEE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BEB1F5-2470-47C8-8F18-2DB72F92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AE4628-DFD3-4042-930F-69CDC079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692D21-4EB5-4665-AD09-726E2612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19CE27-508B-400D-8737-F026EB28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1017EE-4C3C-4AF4-A56E-5984931D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E5B61C-CD44-4CE7-A168-5A76D852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9E8B1F-22F0-4213-B172-1E6516AE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B857-97C6-47F2-AAB9-57121EAA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19BEBD-26A0-429B-AD30-6B02077A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62A830-945A-4647-9FC3-7AD01D03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6F80C6-4173-492A-AEFB-86CEA142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867269-F3B5-4E40-81F4-047D24DD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65C712-8252-4383-8F08-2F76623C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699636-3922-4B1C-AACE-F6A77765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AAACF5-6DEE-4A93-BB6E-AB7720D3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6F139-0522-46B3-B430-859E70EB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7F920C-77B7-4A2B-8C00-7980A4C3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4E39DF-E32B-406D-8588-55A20448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D649-735B-41AB-9D25-662E064D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C8474F-18E5-4F11-9240-5812379E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0C9383-41D4-413F-9E7B-9C320B76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29B9E0-9729-41EF-B860-7E337D60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DB2533-409D-4F54-AAFC-559A1297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C2FD02-B43B-4DA1-89EA-106F0124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065267-0605-4EC7-B312-C78EB673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4372B3-0C21-4D08-92E1-30B5B2E3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C74DD2-5610-4608-90FC-7AD07575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42371A-6440-4DAC-9A3D-3E6266AE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502065-612C-49C8-81E7-C6446149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493A-661D-471A-8842-0BE5DE0B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159E-3018-4DB0-9794-0E314CCD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10F8FA-5374-4889-85E0-465FDBCB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C9BDB9-AE3C-4E3D-BC20-0D0A3BF3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DCC857-3CA2-4653-8658-DE59738B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7CDBBE-DFB4-47CF-9952-EC36BD77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39EEB1-2D03-4FC0-B5B2-6C5AAA22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C99A54-A816-4DD4-BE74-C562C596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AAD614-6C1E-43F2-A628-E201D387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6FD81B-2337-4918-ABF5-C67B7B81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1C2ACC-FA21-42DA-8755-D4133AA8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4AB97E-193C-4826-9352-85DF0BC7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12FF-C680-427C-AA48-C76DDC34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44FB94-F622-44B4-B018-AF7D09F6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84C7D2-6774-46DB-8EC8-6984980C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7A573B-1544-4C19-8DC0-75648C11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F9EB42-293F-487D-8DBD-1C3D2BE4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06E2F4-CA33-4F24-B65A-345D7DD7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D3970A-ED37-450E-B7FB-0DB546FD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6E712C-150A-45D7-ABB5-E554E2BF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C7BB74-6B28-40B8-956A-A9FBA5EC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0B25E8-8DF0-4D72-8906-0BC158FF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83B9FB-C88E-471F-9500-EF640CE3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EBEA-338F-4872-AA81-FB0C0D0D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9D228F-031F-4668-A973-E8E22D5D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5C54FB-5F15-4167-A42F-E73794AC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1B8AF1-E383-4399-B3BC-E30098A9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256CA8-A2E2-42CC-BCC0-D77069F1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25C19F-6579-49BF-BF21-7621FB52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FF999A-BCDF-4627-9A06-6EA7E469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3990E9-0622-4580-80DC-D0E4897D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E448FA-58D3-4F07-A21D-06C1F14A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8201EC-EF0C-4E4E-9332-608713DC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A47317-BE0A-4D33-B4D6-A753410B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FAFE-F7B9-435D-943C-935C816E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599206-8576-4190-AC46-648F7069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F05695-4167-4EFB-8889-1CC40C17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03BCB0-12E0-4FC1-A85E-EEF2A19A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07DB86-05F7-4127-92E5-F5DC8F14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DA3A2B-6F84-46DD-9C2C-EFC57B5E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615D31-ADC7-4703-AF47-648B3FCD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378FBD-E746-40C1-AFCE-E9AA6EFD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2D6FCC-B4C4-4D0B-A0AC-3AFFE1CE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AB2D73-9EAF-4AA2-9BDE-023049BB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CEBCE0-7150-451F-9BA3-0CD64905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6F5B-AF4A-4B5C-B9A0-286319EA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A1A4C6-AF9E-4B8E-8B44-BC5F60B1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D9CB9E-EC05-466E-8103-2A5E5523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728DB1-EBC4-4B9A-ACA5-22BB3262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CB1093-110A-4A12-BA28-177A4FB6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210238-8BB6-4AE2-AC0F-C7B5263B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AE1ED4-826C-4D50-919B-0CEFF13B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7927EC-422B-4547-9ACE-BEA0075C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4A4A64-CCD4-4F8D-B52A-6A585E7A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76558F-E6B7-4F64-9E7F-9548535A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2B2739-8C16-4DD6-A4C5-7BEC6C2E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14AA2-4C63-48D8-BE0B-394A8CF8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210810-7B06-4FC2-A330-955C0265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4F0B69-C690-42D8-8D2F-8EC1A89F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78D27B-17EB-47D2-A01E-0D61B6A5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E6A226-017A-410C-80EB-B6F59DF7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DAFB94-9C8C-4962-B5E1-55C0E684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24E583-EBE1-46CF-A511-01FCEDA9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B99605-778E-4ED7-AE6D-2C0DFD37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C6C493-D6BB-4AF4-99B4-42C64A8E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D89F7B-5CC2-467F-9FD0-ABD112B2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3CA909-A8CE-4D02-A723-C929BD30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876E6-7547-4395-A2F2-2C94B867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F826B2-87D3-4833-890B-000E96E4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6B63EB-4258-4D84-B8A9-9DE1B878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00391C-060A-48D5-97EB-AB2D74C7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D2CEA9-568A-4D95-8F62-5DAEAF88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3BC95D-FFC9-4E6C-8109-D6D7C653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A57C71-B15B-40FB-9960-AA7575AD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5485CC-BD25-4FB2-9CA8-8845EC02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FD61DF-B387-490A-AD54-0F2FFB24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2A2E81-F613-4C98-B8B4-5C0CBB41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5F95FE-7FE8-49B4-9578-B12C56EA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2DF26-2FD8-4962-9591-507C89C6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4E25E2-6D0D-42E3-B60E-43A366EA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523A81-B40D-4FCA-9C58-300A71CB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B9D3FE-59A5-4139-AB8C-66340685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FCF836-09A3-4BC4-86E1-CBD81C8D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D13AD0-9F9C-4272-B2F4-603F9BD1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9EC856-80A2-404C-A9DE-2437B2DC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6DF2CF-D140-42C4-BF4F-DFA3B821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D56138-70E6-405C-AA68-DECD8092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4015AB-3E84-4A6C-A664-8BC6D46B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8FC021-DD3B-4AAB-AC5E-04247053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7AE22-96C1-4DCB-A4D0-5B4D5D2F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B2165D-03C7-4F5B-82AF-6563F659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98E267-B624-45A4-B85A-B0AB7233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53B285-C96A-4556-89D7-A2AC9DA0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A152E5-DF7A-4A62-B85B-50650590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EA2BA1-0FA5-4F9A-A22E-B95AD5F4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41354B-33C4-4A7E-BDFE-0032B2D3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F365F3-7A10-49A9-ACF6-1316C972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1523D4-5E97-46FE-8A57-3BB5F099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7F56E3-6CB8-4C73-8863-E1BF0A53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FBBFD6-BC8E-46D0-BF1C-20DA531C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31FAA-A0AE-4EAB-874F-F8297CC5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F26BBF-9529-4613-BC57-D03E4294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72C497-7FDC-4A35-A143-9DF52994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298A06-4337-43DA-BB12-4F37BFD5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A39042-B5BF-4C8D-9BF9-20DD6C46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4CC7DB-0B59-47F6-A73A-34E04EE6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39E961-A248-48D2-BCDF-0F15C68A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276C88-ED52-4B2C-BB20-D1B8215F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BA8B45-8378-4ED4-B485-3795B574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F8B6F6-5357-4A80-96B8-6AD2FC19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B27D68-7EAF-41AD-9CD7-D097D705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CE1-27ED-49EE-A5BC-2B1DA143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87AE1-5D50-4641-8DB9-BE5A959D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13D085-2966-4051-8F3A-A5D7FA4C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B91FE9-EBD6-4C32-A883-5C8E1C94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EEE032-6808-4F15-ABC9-EC33498E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6CC77C-0CF3-4326-996F-4D142B16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75F905-585F-447A-8D6A-655637ED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7DC394-CC92-4377-B92E-B0760C11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CCBC5E-1A58-411F-B063-A426077B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3F3F04-E456-4A54-B805-AA61F943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501CE8-BE0A-4F26-80F5-5A2747E6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7FD6FA-9909-4081-BAF4-18A6366C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0193A-9B41-4B36-8C04-10732B33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28EA98-E31C-4978-A9E4-F75DE9F4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9A9E5C-FAAD-47C2-BC98-341EA837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77D2A6-F2F2-4B72-B597-6A293510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8DF920-B0C9-4306-A796-BAAB1BD6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7C3A7E-D6DE-406A-AD57-60B745AA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7D63C4-8D25-41C9-8CB0-654FFB4B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648996-AE28-48AF-9D1E-5595DE7E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424FBD-458C-4E0F-A653-DC605A6E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5D41CA-3F62-4888-8414-CD373C8B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AC13FC-7221-4C17-A284-25BB7B05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B488B-C9D3-4853-9966-59FDE18C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F4BED2-D5BF-43D6-AA86-878D18BC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DC8475-C906-4661-AF9D-A4EF491A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9CD040-B7D1-4183-B473-8B75588E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3801AE-D890-4539-A704-B1474023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375360-D66E-4B1B-8239-7D7826DB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768CE2-A931-432E-A102-4AE11227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C1D573-30CE-4C00-816E-4F19CAA1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B86068-892C-4AAD-9218-11FE51A2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04F6CC-38A5-432D-A2EC-B11CF92A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B160F1-903D-45E7-A95B-B4AB9702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A5128-8B16-4A52-A5B0-1EE3CE41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C2A94B-39B7-4FB3-9431-3DE3BA55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8555FF-9014-4F0C-B3E4-66795D58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6E5685-DB7B-4CB1-A7D0-D58FA835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BEAAFA-10FA-4886-AC6C-5549FC14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15BF1F-50CD-4AC3-88DB-9802CE6D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88104C-DF24-40F0-802C-2A895816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89747E-8499-41F6-8214-F92C0E22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8F0187-9216-47E0-B5B0-FC40D1CE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3B3D49-9E48-4460-A672-3E221D28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37985C-53D1-4913-A49B-82FC045B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4741E-C7AB-49EE-AB2F-53DB1930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FA736FC-69F5-4A60-B24D-ADAE5A46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94A49D-F4E3-46CB-8CA1-7981BC3E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08DEC7-CFB1-4607-B323-DD83E3E4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804C7B-7F29-4450-8D15-91D23A40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B697739-2A21-4EF8-B3F4-3CFED702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6C6D9D-2BBF-4DC7-8C36-DB42EF63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FDC6A74-06B7-4B37-B864-367414BC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345340-ECFC-4CE8-B392-F740B3C8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5F21F21-32E3-4957-844E-B90CED32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51E7C8-2E1C-4000-9B91-EE2E5A48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79A47-D766-4D1C-9291-39ED3FD0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D503CA-BED9-4728-B7BE-E5E573BD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7A515E-0D23-4C9B-8CDD-04077DCE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B98E88-256F-4CA1-BADC-F12CBBF3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5808A4-DC37-464E-9C6E-8FC83F53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5DA3A6-648C-43C5-83E3-F685400D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F5E8DA-72BA-4BD2-A291-2755BF64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862F7B-5F33-4BE7-A691-BEDBA10F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97E4FD-C063-488D-ACB1-212A4A69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7A2D25-8EE8-4E2C-82B0-7019EA04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B843574-3BB3-4120-B217-F51E4F49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D01C4-9A6B-4768-B474-222805DC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57CE9C-D217-423A-83E6-118ACDD5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95B1D7-3E9C-437C-B5E5-37FC7444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8BD7034-0DE5-4AAE-93F2-806A0841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9B45C0B-FF5E-406E-8059-2EA23222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3975BD-AEFE-4816-A1E1-8FD1BEC0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404F46-AD50-4DC8-A022-0A6A7FB5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F831650-9BC9-4C2B-B7C1-8C5605A5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129840-25BE-4D6B-B0D2-70CE69F3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468FEE-F730-429C-9EE3-CD8ACA0E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BC6153-A11A-4449-B86E-EA6B18C2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C6217-9027-4CF1-9AC9-4D37D06F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A872EA-1C66-4DDC-A5D3-4283ACFB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CDA0C4-65CE-4A65-9CEB-8BD7909B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66126E-5ECC-4860-8D6F-29E59E1D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34D71-3EB6-4A56-9B11-479E34C8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F3B9B-B652-43B5-A504-E82DE2DA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1EA5-D2B9-46B1-A92E-F90E7DB1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24D44-50CD-4450-9657-D2B26559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53C1C-3552-4935-B543-865B810D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87BD4-4FCE-470E-AF30-471E4216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89BD8-6556-422C-A101-5AC02A46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61614-E85B-40F0-8611-0F56C171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10E4B-7598-4B29-BD74-1C41FA9F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F3CE8-79A3-4896-97E1-7D2E9145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FBA2B-A9E9-4C07-BAB8-15770D5A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977E5-D7B8-4138-9B81-A0458CB4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FE4D1-BD4E-4734-9B0C-6CAC399B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20A5-F182-43DF-93FF-716904AF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B56A0-2337-4B5C-A5FA-9E14ADEA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0745D-4610-47D7-A034-4071AE5C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21A57-73B2-456A-A677-66FFBB78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7037A-AB00-45BE-B3AC-C787023F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9CAA9-6A27-40B1-9554-210FB15D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8B59B-AC08-4ACC-A3DF-45ED51F4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A78D0-4489-43AF-98AF-A2AC2F58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2F455-B925-4B00-BA8F-3E83AAF5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6D276-7884-4D63-8D96-B23C179D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74CD3-D73A-440C-ADA2-D27FEC83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9D9F-5047-437B-9EEC-551FC186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34B2E-679A-43F2-85C4-F692EBA1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B4A7D-03FA-4676-A59F-94878F03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91636-894C-425C-A68A-5E5D97E3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46DE8-DD5A-4945-A22D-D05B46AF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4A871-B7A3-4548-9600-E66544A5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3679A-03D5-4FA4-A1C0-2DD86DBB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D6C19-C81F-46B6-BF47-E1CCD861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5FC45-3293-4DCE-AF35-DF4A9D20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3187B-B6B3-4697-83ED-B39275B9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73FC0-929B-43BB-8CE1-35206D6F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52F7-A42C-4CD8-94AE-231D1F79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DDD2C-1E61-43D4-B4C4-07475C16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B6089-9B44-4356-A706-03C0CB4D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69985-6A0E-4B44-9656-83FDF19E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24A2E-03AE-4704-85FF-7691928D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3B619-9D1C-44B2-BF34-510CA48A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A1B85-3FE9-423D-8A01-FCF13F29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9F39D-8D3F-49AB-975B-7C412752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C5E1D-F8C7-4944-AC2A-277600FB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94436-407A-4633-8EF8-A665F82B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DE15E-5F8B-4330-9C89-092C072F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BF2E-7543-4E3C-978C-11F7A567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0257E-C962-494E-BB71-A1F4B40F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A9C37-8407-4F36-97D4-5F51CBC8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178AD-0D93-4001-A8DD-59A4FB90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E933A-B8CA-4CCA-B534-90EEB678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F2320-2A69-4629-8DC9-91A2D3D0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4EB56-A23F-44C3-88C1-DA0D1CF7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86005-3D08-433B-87D5-521E5F67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959AE-0532-4317-AA5D-6576FAFF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6EA36-2A0A-40C0-97A8-CF1F8EEE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720DC-DC36-459E-BCAA-86F8F42E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49FC-8E5E-4742-A3A7-7E26755D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DEF4C-DFAE-4F2E-B958-72D69945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4B45D-2D58-4516-96B9-ED275471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2127F-7410-4094-97C7-BC73D8E7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C3E15-8E30-4B59-9E7F-9E23A8DC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BC80A-0F5B-464A-A368-D8FBF4EE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003F6-CBFE-429C-B1A6-E0E2F9BA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96656-134E-41BB-AFD9-A4214882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581F6-F4BC-403C-A125-7531B761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F39E2-D504-4932-A25E-15B2D1B2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0BC60-76FE-4880-B4AD-AA65B311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6ECE-DD78-4D25-AD62-01E52E9D4E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F6E2-9D52-48FE-A596-25F26AA037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4C3A-7845-4AE1-8EDB-D9784D4299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AAD6-1013-4BE3-826D-432406136B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6B58-58A7-46B2-AB68-0494D67B36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46D0-47DF-4B33-B0A2-7EA6A06767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0EF4-95DF-4FDB-BB81-88BD0A1065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260D-D6E9-43E6-9A08-9013622F55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7652-756A-4F6A-A66E-96325BF62B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64F3-84F7-487B-B581-8B57E886F8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73C2-0ECC-4449-9EA2-FBB289E78A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B027-10A4-43A6-A65C-B2BFC5F1E7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772C-FF33-4E13-8A5B-58BD326ABF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6CDD-AF85-4C70-BCA7-D5CCBAE24D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BC72-FDC5-41D9-8F46-9B719589C3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7272-9077-40DD-B6C2-912E01C12D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8FAA-9C9F-471A-B9AC-3A3CE04C1A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DE8E-3ADC-4F00-8A84-8E9BFA557C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BA0E-2DD9-4DA3-A8EE-BFFA50C08D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A768-5C4D-46F8-A5A3-5DBBF7E839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00A4-ED22-458B-B68D-A9048CF02D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0496-C96F-47A2-A5B6-6D787E73B9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4790-1C89-4DE5-A84A-A4FF86DB57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ED93-D1B0-4B89-8F28-EBE49F1736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8302-4735-4DE0-9304-57617DBE54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5F1C-DF5D-43DB-84BA-D44929270E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4F78-2942-40EB-A09E-2BD1F78DAA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728B-0C2A-4281-9D78-BE391EEA74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9A89-97F1-457E-94A0-2F2791EE2A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F1CE-85A9-48B4-94E5-240A07A9D2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1D63-B300-4AE1-90F0-FE90F496AC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3654-231F-42F0-B6F7-0A4D048272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374D-0BE7-4C3B-A285-D5EE6097AE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1735-0B1B-46C3-9EF8-D579C8B281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C71B-7937-4996-B8EE-CB9730C968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2917-5006-4801-B725-37CB5AC26E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72F1-98ED-4FF9-8890-BA062F4D17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09D5-76F9-4CD3-A723-0212532723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E6D8-4133-45CF-9E32-FC5C793B50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63E7-DD9C-4855-8A9A-D39FA21DF1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ADA1-1FDC-47B1-B2E0-2388BF42A6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3E1F-BAAC-48D9-9DA0-AC162D95B9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D7E1-661B-4A76-9832-09F6F74984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A429-EE77-496F-86F5-D1CD4E499C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9275-0A21-4BA4-97AA-9BBB35E3EA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82C5-5DB4-4FAF-A730-9816FF9F48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E981-0A1B-4C9B-9D3F-B4C9425500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CAA5-1D16-4AD9-99C1-C1BE393AA9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EF02-F944-466B-BE3B-89E2452786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A827-C5D0-4DC2-9F0C-EEDEE732CA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2792520" y="2313000"/>
            <a:ext cx="3600360" cy="76212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1" descr=""/>
          <p:cNvPicPr/>
          <p:nvPr/>
        </p:nvPicPr>
        <p:blipFill>
          <a:blip r:embed="rId2"/>
          <a:stretch/>
        </p:blipFill>
        <p:spPr>
          <a:xfrm>
            <a:off x="2138400" y="3191040"/>
            <a:ext cx="4867200" cy="47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图片 79873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020080" cy="3876480"/>
          </a:xfrm>
          <a:prstGeom prst="rect">
            <a:avLst/>
          </a:prstGeom>
          <a:ln w="0">
            <a:noFill/>
          </a:ln>
        </p:spPr>
      </p:pic>
      <p:pic>
        <p:nvPicPr>
          <p:cNvPr id="1471" name="图片 79874" descr=""/>
          <p:cNvPicPr/>
          <p:nvPr/>
        </p:nvPicPr>
        <p:blipFill>
          <a:blip r:embed="rId2"/>
          <a:stretch/>
        </p:blipFill>
        <p:spPr>
          <a:xfrm>
            <a:off x="1042920" y="5013360"/>
            <a:ext cx="7381800" cy="1038240"/>
          </a:xfrm>
          <a:prstGeom prst="rect">
            <a:avLst/>
          </a:prstGeom>
          <a:ln w="0">
            <a:noFill/>
          </a:ln>
        </p:spPr>
      </p:pic>
      <p:sp>
        <p:nvSpPr>
          <p:cNvPr id="1472" name="矩形 79875"/>
          <p:cNvSpPr/>
          <p:nvPr/>
        </p:nvSpPr>
        <p:spPr>
          <a:xfrm>
            <a:off x="3938760" y="5589720"/>
            <a:ext cx="387324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89089" descr=""/>
          <p:cNvPicPr/>
          <p:nvPr/>
        </p:nvPicPr>
        <p:blipFill>
          <a:blip r:embed="rId1"/>
          <a:stretch/>
        </p:blipFill>
        <p:spPr>
          <a:xfrm>
            <a:off x="1004760" y="1638360"/>
            <a:ext cx="71344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图片 90113" descr=""/>
          <p:cNvPicPr/>
          <p:nvPr/>
        </p:nvPicPr>
        <p:blipFill>
          <a:blip r:embed="rId1"/>
          <a:stretch/>
        </p:blipFill>
        <p:spPr>
          <a:xfrm>
            <a:off x="843120" y="1243080"/>
            <a:ext cx="7457760" cy="4371840"/>
          </a:xfrm>
          <a:prstGeom prst="rect">
            <a:avLst/>
          </a:prstGeom>
          <a:ln w="0">
            <a:noFill/>
          </a:ln>
        </p:spPr>
      </p:pic>
      <p:sp>
        <p:nvSpPr>
          <p:cNvPr id="1475" name="矩形 90114"/>
          <p:cNvSpPr/>
          <p:nvPr/>
        </p:nvSpPr>
        <p:spPr>
          <a:xfrm>
            <a:off x="4672080" y="3573360"/>
            <a:ext cx="691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90115"/>
          <p:cNvSpPr/>
          <p:nvPr/>
        </p:nvSpPr>
        <p:spPr>
          <a:xfrm>
            <a:off x="6262560" y="4640400"/>
            <a:ext cx="169416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图片 91137" descr=""/>
          <p:cNvPicPr/>
          <p:nvPr/>
        </p:nvPicPr>
        <p:blipFill>
          <a:blip r:embed="rId1"/>
          <a:stretch/>
        </p:blipFill>
        <p:spPr>
          <a:xfrm>
            <a:off x="1100160" y="1762200"/>
            <a:ext cx="6943680" cy="3333600"/>
          </a:xfrm>
          <a:prstGeom prst="rect">
            <a:avLst/>
          </a:prstGeom>
          <a:ln w="0">
            <a:noFill/>
          </a:ln>
        </p:spPr>
      </p:pic>
      <p:sp>
        <p:nvSpPr>
          <p:cNvPr id="1478" name="矩形 91138"/>
          <p:cNvSpPr/>
          <p:nvPr/>
        </p:nvSpPr>
        <p:spPr>
          <a:xfrm>
            <a:off x="4633920" y="3556080"/>
            <a:ext cx="801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91139"/>
          <p:cNvSpPr/>
          <p:nvPr/>
        </p:nvSpPr>
        <p:spPr>
          <a:xfrm>
            <a:off x="2519280" y="4653000"/>
            <a:ext cx="80172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图片 92161" descr=""/>
          <p:cNvPicPr/>
          <p:nvPr/>
        </p:nvPicPr>
        <p:blipFill>
          <a:blip r:embed="rId1"/>
          <a:stretch/>
        </p:blipFill>
        <p:spPr>
          <a:xfrm>
            <a:off x="547560" y="1461960"/>
            <a:ext cx="8048880" cy="3934080"/>
          </a:xfrm>
          <a:prstGeom prst="rect">
            <a:avLst/>
          </a:prstGeom>
          <a:ln w="0">
            <a:noFill/>
          </a:ln>
        </p:spPr>
      </p:pic>
      <p:sp>
        <p:nvSpPr>
          <p:cNvPr id="1481" name="矩形 92162"/>
          <p:cNvSpPr/>
          <p:nvPr/>
        </p:nvSpPr>
        <p:spPr>
          <a:xfrm>
            <a:off x="7815240" y="2670120"/>
            <a:ext cx="466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88065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429400" cy="3610080"/>
          </a:xfrm>
          <a:prstGeom prst="rect">
            <a:avLst/>
          </a:prstGeom>
          <a:ln w="0">
            <a:noFill/>
          </a:ln>
        </p:spPr>
      </p:pic>
      <p:sp>
        <p:nvSpPr>
          <p:cNvPr id="1435" name="矩形 88066"/>
          <p:cNvSpPr/>
          <p:nvPr/>
        </p:nvSpPr>
        <p:spPr>
          <a:xfrm>
            <a:off x="4140360" y="2421000"/>
            <a:ext cx="660240" cy="257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88067"/>
          <p:cNvSpPr/>
          <p:nvPr/>
        </p:nvSpPr>
        <p:spPr>
          <a:xfrm>
            <a:off x="8388360" y="2421000"/>
            <a:ext cx="360360" cy="257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88068"/>
          <p:cNvSpPr/>
          <p:nvPr/>
        </p:nvSpPr>
        <p:spPr>
          <a:xfrm>
            <a:off x="615960" y="2790720"/>
            <a:ext cx="360360" cy="2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88069"/>
          <p:cNvSpPr/>
          <p:nvPr/>
        </p:nvSpPr>
        <p:spPr>
          <a:xfrm>
            <a:off x="5435640" y="2790720"/>
            <a:ext cx="720720" cy="2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88070"/>
          <p:cNvSpPr/>
          <p:nvPr/>
        </p:nvSpPr>
        <p:spPr>
          <a:xfrm>
            <a:off x="4535640" y="3162240"/>
            <a:ext cx="591840" cy="2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88071"/>
          <p:cNvSpPr/>
          <p:nvPr/>
        </p:nvSpPr>
        <p:spPr>
          <a:xfrm>
            <a:off x="6364440" y="3162240"/>
            <a:ext cx="591840" cy="2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88072"/>
          <p:cNvSpPr/>
          <p:nvPr/>
        </p:nvSpPr>
        <p:spPr>
          <a:xfrm>
            <a:off x="3632040" y="3573360"/>
            <a:ext cx="79560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88073"/>
          <p:cNvSpPr/>
          <p:nvPr/>
        </p:nvSpPr>
        <p:spPr>
          <a:xfrm>
            <a:off x="6777000" y="3489480"/>
            <a:ext cx="795240" cy="45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88074"/>
          <p:cNvSpPr/>
          <p:nvPr/>
        </p:nvSpPr>
        <p:spPr>
          <a:xfrm>
            <a:off x="1332000" y="4005360"/>
            <a:ext cx="795240" cy="45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88075"/>
          <p:cNvSpPr/>
          <p:nvPr/>
        </p:nvSpPr>
        <p:spPr>
          <a:xfrm>
            <a:off x="5435640" y="4005360"/>
            <a:ext cx="795240" cy="45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88076"/>
          <p:cNvSpPr/>
          <p:nvPr/>
        </p:nvSpPr>
        <p:spPr>
          <a:xfrm>
            <a:off x="1979640" y="4498920"/>
            <a:ext cx="155556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88077"/>
          <p:cNvSpPr/>
          <p:nvPr/>
        </p:nvSpPr>
        <p:spPr>
          <a:xfrm>
            <a:off x="5867280" y="4508640"/>
            <a:ext cx="2772000" cy="31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88078"/>
          <p:cNvSpPr/>
          <p:nvPr/>
        </p:nvSpPr>
        <p:spPr>
          <a:xfrm>
            <a:off x="611280" y="4857840"/>
            <a:ext cx="112716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87041" descr=""/>
          <p:cNvPicPr/>
          <p:nvPr/>
        </p:nvPicPr>
        <p:blipFill>
          <a:blip r:embed="rId1"/>
          <a:stretch/>
        </p:blipFill>
        <p:spPr>
          <a:xfrm>
            <a:off x="331920" y="816120"/>
            <a:ext cx="8410320" cy="5524200"/>
          </a:xfrm>
          <a:prstGeom prst="rect">
            <a:avLst/>
          </a:prstGeom>
          <a:ln w="0">
            <a:noFill/>
          </a:ln>
        </p:spPr>
      </p:pic>
      <p:pic>
        <p:nvPicPr>
          <p:cNvPr id="1449" name="图片 87042" descr=""/>
          <p:cNvPicPr/>
          <p:nvPr/>
        </p:nvPicPr>
        <p:blipFill>
          <a:blip r:embed="rId2"/>
          <a:stretch/>
        </p:blipFill>
        <p:spPr>
          <a:xfrm>
            <a:off x="5934240" y="2665440"/>
            <a:ext cx="2828880" cy="2209680"/>
          </a:xfrm>
          <a:prstGeom prst="rect">
            <a:avLst/>
          </a:prstGeom>
          <a:ln w="0">
            <a:noFill/>
          </a:ln>
        </p:spPr>
      </p:pic>
      <p:sp>
        <p:nvSpPr>
          <p:cNvPr id="1450" name="矩形 87043"/>
          <p:cNvSpPr/>
          <p:nvPr/>
        </p:nvSpPr>
        <p:spPr>
          <a:xfrm>
            <a:off x="7451640" y="5229360"/>
            <a:ext cx="673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87044"/>
          <p:cNvSpPr/>
          <p:nvPr/>
        </p:nvSpPr>
        <p:spPr>
          <a:xfrm>
            <a:off x="5022720" y="5610240"/>
            <a:ext cx="673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87045"/>
          <p:cNvSpPr/>
          <p:nvPr/>
        </p:nvSpPr>
        <p:spPr>
          <a:xfrm>
            <a:off x="2700360" y="5994360"/>
            <a:ext cx="673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86017" descr=""/>
          <p:cNvPicPr/>
          <p:nvPr/>
        </p:nvPicPr>
        <p:blipFill>
          <a:blip r:embed="rId1"/>
          <a:stretch/>
        </p:blipFill>
        <p:spPr>
          <a:xfrm>
            <a:off x="395280" y="743040"/>
            <a:ext cx="8420040" cy="5867280"/>
          </a:xfrm>
          <a:prstGeom prst="rect">
            <a:avLst/>
          </a:prstGeom>
          <a:ln w="0">
            <a:noFill/>
          </a:ln>
        </p:spPr>
      </p:pic>
      <p:sp>
        <p:nvSpPr>
          <p:cNvPr id="1454" name="矩形 86018"/>
          <p:cNvSpPr/>
          <p:nvPr/>
        </p:nvSpPr>
        <p:spPr>
          <a:xfrm>
            <a:off x="8148600" y="1574640"/>
            <a:ext cx="384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86019"/>
          <p:cNvSpPr/>
          <p:nvPr/>
        </p:nvSpPr>
        <p:spPr>
          <a:xfrm>
            <a:off x="8167680" y="2260440"/>
            <a:ext cx="384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86020"/>
          <p:cNvSpPr/>
          <p:nvPr/>
        </p:nvSpPr>
        <p:spPr>
          <a:xfrm>
            <a:off x="8205840" y="3546360"/>
            <a:ext cx="384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86021"/>
          <p:cNvSpPr/>
          <p:nvPr/>
        </p:nvSpPr>
        <p:spPr>
          <a:xfrm>
            <a:off x="7996320" y="5499000"/>
            <a:ext cx="536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86022"/>
          <p:cNvSpPr/>
          <p:nvPr/>
        </p:nvSpPr>
        <p:spPr>
          <a:xfrm>
            <a:off x="2195640" y="6232680"/>
            <a:ext cx="6476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图片 84993" descr=""/>
          <p:cNvPicPr/>
          <p:nvPr/>
        </p:nvPicPr>
        <p:blipFill>
          <a:blip r:embed="rId1"/>
          <a:stretch/>
        </p:blipFill>
        <p:spPr>
          <a:xfrm>
            <a:off x="557280" y="666720"/>
            <a:ext cx="8029440" cy="5524560"/>
          </a:xfrm>
          <a:prstGeom prst="rect">
            <a:avLst/>
          </a:prstGeom>
          <a:ln w="0">
            <a:noFill/>
          </a:ln>
        </p:spPr>
      </p:pic>
      <p:sp>
        <p:nvSpPr>
          <p:cNvPr id="1460" name="矩形 84994"/>
          <p:cNvSpPr/>
          <p:nvPr/>
        </p:nvSpPr>
        <p:spPr>
          <a:xfrm>
            <a:off x="7777080" y="3660840"/>
            <a:ext cx="466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83969" descr=""/>
          <p:cNvPicPr/>
          <p:nvPr/>
        </p:nvPicPr>
        <p:blipFill>
          <a:blip r:embed="rId1"/>
          <a:stretch/>
        </p:blipFill>
        <p:spPr>
          <a:xfrm>
            <a:off x="547560" y="1495440"/>
            <a:ext cx="8048880" cy="3867120"/>
          </a:xfrm>
          <a:prstGeom prst="rect">
            <a:avLst/>
          </a:prstGeom>
          <a:ln w="0">
            <a:noFill/>
          </a:ln>
        </p:spPr>
      </p:pic>
      <p:sp>
        <p:nvSpPr>
          <p:cNvPr id="1462" name="矩形 83970"/>
          <p:cNvSpPr/>
          <p:nvPr/>
        </p:nvSpPr>
        <p:spPr>
          <a:xfrm>
            <a:off x="4500720" y="2708280"/>
            <a:ext cx="466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82945" descr=""/>
          <p:cNvPicPr/>
          <p:nvPr/>
        </p:nvPicPr>
        <p:blipFill>
          <a:blip r:embed="rId1"/>
          <a:stretch/>
        </p:blipFill>
        <p:spPr>
          <a:xfrm>
            <a:off x="542880" y="1585800"/>
            <a:ext cx="8058240" cy="3686400"/>
          </a:xfrm>
          <a:prstGeom prst="rect">
            <a:avLst/>
          </a:prstGeom>
          <a:ln w="0">
            <a:noFill/>
          </a:ln>
        </p:spPr>
      </p:pic>
      <p:sp>
        <p:nvSpPr>
          <p:cNvPr id="1464" name="矩形 82946"/>
          <p:cNvSpPr/>
          <p:nvPr/>
        </p:nvSpPr>
        <p:spPr>
          <a:xfrm>
            <a:off x="7812000" y="2205000"/>
            <a:ext cx="466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81921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58240" cy="5686560"/>
          </a:xfrm>
          <a:prstGeom prst="rect">
            <a:avLst/>
          </a:prstGeom>
          <a:ln w="0">
            <a:noFill/>
          </a:ln>
        </p:spPr>
      </p:pic>
      <p:sp>
        <p:nvSpPr>
          <p:cNvPr id="1466" name="矩形 81922"/>
          <p:cNvSpPr/>
          <p:nvPr/>
        </p:nvSpPr>
        <p:spPr>
          <a:xfrm>
            <a:off x="7812000" y="836640"/>
            <a:ext cx="466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80897" descr=""/>
          <p:cNvPicPr/>
          <p:nvPr/>
        </p:nvPicPr>
        <p:blipFill>
          <a:blip r:embed="rId1"/>
          <a:stretch/>
        </p:blipFill>
        <p:spPr>
          <a:xfrm>
            <a:off x="552600" y="1171440"/>
            <a:ext cx="8038800" cy="4515120"/>
          </a:xfrm>
          <a:prstGeom prst="rect">
            <a:avLst/>
          </a:prstGeom>
          <a:ln w="0">
            <a:noFill/>
          </a:ln>
        </p:spPr>
      </p:pic>
      <p:sp>
        <p:nvSpPr>
          <p:cNvPr id="1468" name="矩形 80898"/>
          <p:cNvSpPr/>
          <p:nvPr/>
        </p:nvSpPr>
        <p:spPr>
          <a:xfrm>
            <a:off x="3024360" y="3500280"/>
            <a:ext cx="147636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80899"/>
          <p:cNvSpPr/>
          <p:nvPr/>
        </p:nvSpPr>
        <p:spPr>
          <a:xfrm>
            <a:off x="2728800" y="5205240"/>
            <a:ext cx="16988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53:03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